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443-50C6-40DE-ACE9-86DF5F49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8E4-C900-46EB-82C8-EEB15BB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69B-4D50-46C4-9FA9-AA1F5285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38F-A16F-4011-8C46-C4AE1785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AA5-FB07-4301-99E8-8DB609A9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BA6-811E-48DF-96A6-614BFE0A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A28-BC08-4311-AC4D-70AF628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09EE-7B12-47C6-9AF7-E1F188E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9600-89DF-4244-9593-ED9C7033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233-241F-4037-8D3E-BE0E0BC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044D-6A18-4924-BCFB-3D169D57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E99-5DA9-4603-A65A-6A337437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E90-FB5D-407D-A578-71F799D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AAB-C99D-43BC-B916-1352FFF8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1059-C107-4D0F-B52C-41120412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0836-CB20-4926-8C96-1BA2CC12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88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88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8122-B683-4EA3-8DCF-5DA1266C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4B3-1F0B-4774-AF14-0D49E36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4D9-0380-4921-A2CF-518F5943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AC9-0FBE-4CC6-AE22-D843CC0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18C-C02E-45BC-A447-D9324E72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FFC-A58C-4617-96CD-8C0B0FD5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88C-CAF8-4235-B689-53DAE62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940-C9BD-4330-BD48-D4C5608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tanding"/>
          <p:cNvPicPr/>
          <p:nvPr/>
        </p:nvPicPr>
        <p:blipFill>
          <a:blip r:embed="rId3"/>
          <a:stretch/>
        </p:blipFill>
        <p:spPr>
          <a:xfrm>
            <a:off x="594360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195-9ECE-4CEB-BB81-5A026E01DDE9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7A7-74E4-412F-A975-9BA71FDD4E81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33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oofy Bea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 YOU to Answer this Question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84" name="Picture 13" descr="beaver_alarm_hg_clr"/>
          <p:cNvPicPr/>
          <p:nvPr/>
        </p:nvPicPr>
        <p:blipFill>
          <a:blip r:embed="rId1"/>
          <a:stretch/>
        </p:blipFill>
        <p:spPr>
          <a:xfrm>
            <a:off x="2971800" y="152280"/>
            <a:ext cx="3030480" cy="238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7" descr="beaver_working_hg_clr"/>
          <p:cNvPicPr/>
          <p:nvPr/>
        </p:nvPicPr>
        <p:blipFill>
          <a:blip r:embed="rId2"/>
          <a:stretch/>
        </p:blipFill>
        <p:spPr>
          <a:xfrm>
            <a:off x="184320" y="4492800"/>
            <a:ext cx="2406600" cy="2060280"/>
          </a:xfrm>
          <a:prstGeom prst="rect">
            <a:avLst/>
          </a:prstGeom>
          <a:ln w="0">
            <a:noFill/>
          </a:ln>
        </p:spPr>
      </p:pic>
      <p:pic>
        <p:nvPicPr>
          <p:cNvPr id="86" name="canyoufeelthelovetonight.mid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23:40:48Z</dcterms:created>
  <dc:creator>cmassengale</dc:creator>
  <dc:description/>
  <dc:language>en-US</dc:language>
  <cp:lastModifiedBy>Microsoft Office User</cp:lastModifiedBy>
  <dcterms:modified xsi:type="dcterms:W3CDTF">2011-09-17T09:36:48Z</dcterms:modified>
  <cp:revision>6</cp:revision>
  <dc:subject/>
  <dc:title>Goofy Beaver  Challenges YOU to Answer this Question</dc:title>
</cp:coreProperties>
</file>